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4736-0969-4170-9342-3603B6FF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3A9-CE25-46E0-88F1-BD764708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B56-460E-437D-B71B-39A8BFF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C4D-908A-476B-BECC-B6400743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409-AF9E-4DED-8780-12CBF0A4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4105-195B-4753-902C-00DDFA48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20D-9836-42E9-AC82-622BFCCC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5D2-0C62-457E-8202-438FED5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D6D-368E-4894-BD7A-150D83D3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74B-5E1A-46A9-B20E-DF83213E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27F-C90D-4192-B25E-EA876936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B3F-76A3-4DB3-A5A5-EC549F1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D6B-650A-487A-B267-8E039B0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C7A-2EF0-490C-A992-AA99B46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EF7-E5AD-4411-8A8B-C6B719E3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es y quieres ir al parke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. ¿Cómo están y que hacen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 y puedemos ir a las 3 de la tarde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ero esta lluven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26Z</dcterms:modified>
  <cp:revision>109</cp:revision>
  <dc:subject/>
  <dc:title>Profile</dc:title>
</cp:coreProperties>
</file>